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772-0E2D-42C9-AF45-D7C6B87A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6F9-B6EC-42E9-A4E6-D6EBBFFA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558F-F01E-4BE8-8109-C0C691E6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540-C8DA-43B5-997D-FCFA1554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0303-C27E-424A-B7E7-0563FE28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A36-954F-4A6D-97CC-09210693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3B29-93E7-4404-97A9-51A79A30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BC45-88E5-404F-BC96-4054A1CB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1CE-93CF-4895-A646-A1BB736A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B078-2068-4D8B-AF71-401BD9EC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F706-53D8-485E-881A-ADC6C63C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0087-5FA8-4B87-8DD7-01435F06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4CB4-3E08-479C-A7A2-FE4E164A3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40000" y="1844640"/>
            <a:ext cx="4114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eorgiana Pocol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66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16360" y="2924280"/>
            <a:ext cx="28382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ls a XI-a D</a:t>
            </a:r>
            <a:endParaRPr b="0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1047600"/>
            <a:ext cx="792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0" i="1" lang="ro-RO" sz="2000" spc="-1" strike="noStrike">
                <a:solidFill>
                  <a:srgbClr val="660066"/>
                </a:solidFill>
                <a:latin typeface="Arial"/>
              </a:rPr>
              <a:t>ă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 numesc Pocol Georgiana </a:t>
            </a:r>
            <a:r>
              <a:rPr b="0" i="1" lang="ro-RO" sz="2000" spc="-1" strike="noStrike">
                <a:solidFill>
                  <a:srgbClr val="660066"/>
                </a:solidFill>
                <a:latin typeface="Arial"/>
              </a:rPr>
              <a:t>ş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i sunt </a:t>
            </a:r>
            <a:r>
              <a:rPr b="0" i="1" lang="ro-RO" sz="2000" spc="-1" strike="noStrike">
                <a:solidFill>
                  <a:srgbClr val="660066"/>
                </a:solidFill>
                <a:latin typeface="Arial"/>
              </a:rPr>
              <a:t>î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n clasa a XI-a D.</a:t>
            </a:r>
            <a:r>
              <a:rPr b="0" i="1" lang="ro-RO" sz="2000" spc="-1" strike="noStrike">
                <a:solidFill>
                  <a:srgbClr val="660066"/>
                </a:solidFill>
                <a:latin typeface="Arial"/>
              </a:rPr>
              <a:t> Am ales acest profil deoarece îmi plac limbile străine dar si literatura român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660066"/>
                </a:solidFill>
                <a:latin typeface="Arial"/>
              </a:rPr>
              <a:t>Pe de altă parte, îmi plac artele, in special muzica si pictu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i="1" lang="ro-RO" sz="2000" spc="-1" strike="noStrike">
                <a:solidFill>
                  <a:srgbClr val="660066"/>
                </a:solidFill>
                <a:latin typeface="Arial"/>
              </a:rPr>
              <a:t>Mi-am propus ca în acest an să învăt mai mult, şi sa ma axez in special pe materiile care sunt importante în domeniul pe care vreau să îl urm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i="1" lang="ro-RO" sz="2000" spc="-1" strike="noStrike">
                <a:solidFill>
                  <a:srgbClr val="660066"/>
                </a:solidFill>
                <a:latin typeface="Arial"/>
              </a:rPr>
              <a:t>Sunt ambiţioasă si sper că voi realiza ceea ce mi-am prop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04:28:30Z</dcterms:created>
  <dc:creator> </dc:creator>
  <dc:description/>
  <dc:language>en-US</dc:language>
  <cp:lastModifiedBy> </cp:lastModifiedBy>
  <dcterms:modified xsi:type="dcterms:W3CDTF">2011-09-22T04:42:06Z</dcterms:modified>
  <cp:revision>2</cp:revision>
  <dc:subject/>
  <dc:title>Diapozitivul 1</dc:title>
</cp:coreProperties>
</file>